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660B-91D4-42F8-A33E-5AE6BC09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-41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51C0-847F-4C13-9A65-055D0459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-41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7AFC-556D-4DB9-9008-C3D4318A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-41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2649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836280"/>
            <a:ext cx="2649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836280"/>
            <a:ext cx="2649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555A-66FF-4B88-A7F2-A0092853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41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AC68-010E-43B0-A193-5C8AC622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41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289E-6DDF-417F-8FE0-E9D5E97B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-41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E2E9-5A96-49B5-A94B-CC644BBE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41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8431-53D9-43E0-A5CD-E97ABFFF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72E0-1BFF-441F-BFE5-F88385B7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-41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8B03-CF6A-4334-BB79-E0A4139F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-41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D491-9BF0-4773-9155-5DE98A3D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-41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F7BF-0528-49F9-8658-0CA0A5CC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930720" y="6540480"/>
            <a:ext cx="213372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7F23-D9D2-4837-AA81-36F8DA15D917}" type="slidenum"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2600"/>
            <a:ext cx="9144000" cy="655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-387" b="32314"/>
          <a:stretch/>
        </p:blipFill>
        <p:spPr>
          <a:xfrm>
            <a:off x="57240" y="50760"/>
            <a:ext cx="1130040" cy="20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vents.linuxfoundation.jp/events/linuxcon-japan/program/schedule" TargetMode="External"/><Relationship Id="rId2" Type="http://schemas.openxmlformats.org/officeDocument/2006/relationships/hyperlink" Target="http://events.linuxfoundation.jp/events/linuxcon-japan/program/presentations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916280"/>
            <a:ext cx="878544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 Black"/>
              </a:rPr>
              <a:t>Automotive Linux Summit Spring 2013</a:t>
            </a:r>
            <a:br>
              <a:rPr sz="2800"/>
            </a:br>
            <a:r>
              <a:rPr b="0" lang="ja-JP" sz="3200" spc="-1" strike="noStrike">
                <a:solidFill>
                  <a:srgbClr val="000000"/>
                </a:solidFill>
                <a:latin typeface="Arial Black"/>
              </a:rPr>
              <a:t>LinuxCon Japan 2013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 Black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28680" y="4268880"/>
            <a:ext cx="6656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パナソニック株式会社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加藤 一臣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HGP創英角ｺﾞｼｯｸUB"/>
              </a:rPr>
              <a:t>LinuxCon Japan 2013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HGP創英角ｺﾞｼｯｸUB"/>
              </a:rPr>
              <a:t>LinuxCon Japan </a:t>
            </a:r>
            <a:r>
              <a:rPr b="0" lang="ja-JP" sz="3600" spc="-1" strike="noStrike">
                <a:solidFill>
                  <a:srgbClr val="ffffff"/>
                </a:solidFill>
                <a:latin typeface="HGP創英角ｺﾞｼｯｸUB"/>
              </a:rPr>
              <a:t>概要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LinuxCon Japan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とは？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Linux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の技術についての国際技術会議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(5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回目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エンタープライズ系の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Linux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がメイン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主催は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The Linux Foundation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著名な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Kernel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メンテナーや、世界中の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Linux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技術者が多数参加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開催日時：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5/29(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水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～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31(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金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日間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場所：椿山荘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東京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参加費：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300,350,425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ドル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差は早期割引有り無し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参加者：登録者は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650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名とのこと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(LF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の事務の方に聞きました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Keynote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，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Keynote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は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個，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Session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6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会場同時開催，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日間で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80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個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CloudOpen Japan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イベント共催。実態は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1,2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会場の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Session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が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Cloud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枠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41CF-AA69-4298-828A-386010753C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GP創英角ｺﾞｼｯｸUB"/>
              </a:rPr>
              <a:t>Reference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スケジュール：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ja-JP" sz="1400" spc="-1" strike="noStrike" u="sng">
                <a:solidFill>
                  <a:srgbClr val="009999"/>
                </a:solidFill>
                <a:uFillTx/>
                <a:latin typeface="HGP創英角ｺﾞｼｯｸUB"/>
                <a:hlinkClick r:id="rId1"/>
              </a:rPr>
              <a:t>http://events.linuxfoundation.jp/events/linuxcon-japan/program/schedule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スライド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PDF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ja-JP" sz="1400" spc="-1" strike="noStrike" u="sng">
                <a:solidFill>
                  <a:srgbClr val="009999"/>
                </a:solidFill>
                <a:uFillTx/>
                <a:latin typeface="HGP創英角ｺﾞｼｯｸUB"/>
                <a:hlinkClick r:id="rId2"/>
              </a:rPr>
              <a:t>http://events.linuxfoundation.jp/events/linuxcon-japan/program/presentations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Keynote Video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17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日に公開されるらしい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(LF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からの参加者へのメールより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Photo Stream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http://events.linuxfoundation.org/events/linuxcon-japan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各種サイトより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クラウドはオープンソースの技術から作られた？　～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LinuxCon Japan 2013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初日レポート</a:t>
            </a:r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http://cloud.watch.impress.co.jp/docs/event/20130530_601494.html</a:t>
            </a:r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「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Linux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はオープンソースにしたおかげで今も続いている」～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Linus Tovalds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氏</a:t>
            </a:r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http://cloud.watch.impress.co.jp/docs/event/20130531_601668.html</a:t>
            </a:r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Linux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カーネルの開発状況とトレンド、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OpenStack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の動向などを解説～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LinuxCon Japan 3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日目基調講演</a:t>
            </a:r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http://cloud.watch.impress.co.jp/docs/event/20130603_601967.html</a:t>
            </a:r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なぜ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Linux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を生み出せたのか？ それはぼくが若くてバカだったからだよ！─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LinuxCon Japan 2013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で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年ぶりに来日した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Linus Torvalds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名言集</a:t>
            </a:r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http://gihyo.jp/news/report/2013/05/3101</a:t>
            </a:r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Gihyo.jp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の連載：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LinuxCon Japan 2013 Preview</a:t>
            </a:r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http://gihyo.jp/dev/serial/01/linuxcon2013</a:t>
            </a:r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Togetter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日目：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http://togetter.com/li/510249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日目：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http://togetter.com/li/510739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3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日目：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http://togetter.com/li/511211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BB4-473E-45BE-AB1C-757AFB1B15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Keynote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会場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60360" y="1009800"/>
            <a:ext cx="7488360" cy="5616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8000" y="836640"/>
            <a:ext cx="5616360" cy="1440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初日の</a:t>
            </a:r>
            <a:r>
              <a:rPr b="1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Keynote</a:t>
            </a:r>
            <a:r>
              <a:rPr b="1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様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inus</a:t>
            </a:r>
            <a:r>
              <a:rPr b="1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さん登壇のパネル時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聴講者は</a:t>
            </a:r>
            <a:r>
              <a:rPr b="1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500</a:t>
            </a:r>
            <a:r>
              <a:rPr b="1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人以上いたと思わ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2201-9218-4FBB-A944-C625EABFB0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GP創英角ｺﾞｼｯｸUB"/>
              </a:rPr>
              <a:t>Keynote : The Linux Foundation 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Title : Opening Keynote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Speaker : Jim Zemlin, Executive Director at The Linux Foundation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概要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Don’t dream it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大きなことをやろうとする必要は無いのです．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I‘m not doing anything big. Just something for fun Linus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の有名なことば 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Linus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はこれで本を書いた 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Title 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「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Just for fun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」．成功は後から付いてくる 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Give it away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IBM, RedHat, Microsoft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の成長度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株価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の紹介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無料にすることでアイデアを共有できる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(→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お金を稼げる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Don’t hava a plan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Linux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にプランはない．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Whether Forecast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が一番の成功かもしれない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天気は計画できないですよね．でも，少しは予測できる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You don’t always have to be nice.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普通「良い人じゃないと」と思うでしょう．しかし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OSS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の人は批評・批判します．討議・批評が良い結果をもたらします．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The best firms invest in EXTERNAL research and development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外部の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R&amp;D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をうまくマネージしている会社が良い．アイデアと言うのは社外から来ることが多い．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Google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や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IBM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では外のソフトウェアについて「何がいいか？どう使うか？」を見ている人がいる．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8A01-501F-43E1-A386-F3B5FB4CD1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GP創英角ｺﾞｼｯｸUB"/>
              </a:rPr>
              <a:t>Keynote : NEC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P創英角ｺﾞｼｯｸUB"/>
              </a:rPr>
              <a:t>Title : Introduction to OpenDaylight: An Open Source Community Around Software-Defined Networking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P創英角ｺﾞｼｯｸUB"/>
              </a:rPr>
              <a:t>Speaker : Terry Nakajima, Senior Manager, SDN Business Strategy at NEC Corporation of America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P創英角ｺﾞｼｯｸUB"/>
              </a:rPr>
              <a:t>概要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SDN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をつくるためのもの 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OpenDayligh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SDN : Software Defined Networking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The Linux Foundation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内の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Collaborative Project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コミュニティを健全な形で運営していくことが重要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第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四半期にコードリリース予定．ライセンスは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EPL 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4C1B-A7BD-4D39-9F7E-C5D0E5B955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GP創英角ｺﾞｼｯｸUB"/>
              </a:rPr>
              <a:t>Keynote : Panel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P創英角ｺﾞｼｯｸUB"/>
              </a:rPr>
              <a:t>Title : Panel - Virtualization &amp; Open Cloud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P創英角ｺﾞｼｯｸUB"/>
              </a:rPr>
              <a:t>Panelist : 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Laszlo Hornyak, Red Hat; David Nalley, Apache CloudStack; Muharem Hrnjadovic, Rackspace; Guido Trotter, Google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P創英角ｺﾞｼｯｸUB"/>
              </a:rPr>
              <a:t>Moderator : 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Fernando Luis Vázquez Cao, NTT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P創英角ｺﾞｼｯｸUB"/>
              </a:rPr>
              <a:t>概要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従来の仮想化とクラウド，何が違うのか？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エンドユーザにとってはそれは重要ではない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ユーティリティの観点が重要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OpenDayligh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．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SDN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は必要？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スケールの問題が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SDN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に人を向かわせている．従来のネットワークだとスケールの問題が出てくる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などなど・・・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135A-F198-4461-80D7-34A66FEF12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GP創英角ｺﾞｼｯｸUB"/>
              </a:rPr>
              <a:t>Keynote : Open Compute Foundation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itle : The Open Source Data Center: The Holy Grail of X Computing and Community Driven Innovation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peaker : Cole Crawford, Chief Operating Officer at Open Compute Foundation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ｺﾞｼｯｸUB"/>
              </a:rPr>
              <a:t>概要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</a:rPr>
              <a:t>オープンなデータセンター技術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ソフトウェアだけでなく，ハードウェアもオープンに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データセンターやサーバなどの使用や技術をオープンに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</a:rPr>
              <a:t>データセンター．オープンにやるほうが有利なことがわかった．少しくらい自分達だけのものがあろうが，オープンにするほうが良かった．その結果，いろんなアイデアがでてきた．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FE3D-F267-4F49-8378-3FF2764742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GP創英角ｺﾞｼｯｸUB"/>
              </a:rPr>
              <a:t>Keynote : Fujitsu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Title : Open Source Development in Real Business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Speaker : Yoshiya Eto, Fujitsu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概要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富士通での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Linux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開発との関係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Working together with OSS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実装する人は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Requirement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をちょっと違って理解するかもしれない．ではどうするか？ あなた自身で開発すれば良い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To develop things in community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コミュニティで開発する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Development style in Linux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Linux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は作ったらクリーンアップしないといけない．その上でパッチを送る．これが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(1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つの会社の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チームの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生産性としては低原因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Fuel of Innovation at OSS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他のベンダーとやることで，技術革新ができる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先にあげた生産性は私のチームの生産性に過ぎない．全体の生産性は何倍にもなる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Summary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：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No choice other than OSS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2E75-FB17-4694-9556-440739BA3B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HGP創英角ｺﾞｼｯｸUB"/>
              </a:rPr>
              <a:t>Keynote Panel : Linus &amp; Dirk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Title : Linux: Where Are We Going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Panelist : Linux Creator Linus Torvalds and Intel's Chief Linux and Open Source Technologist, Dirk Hohndel 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概要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抜粋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Linux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は今どこにいるのか？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数年，このモデルはうまく行っている．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8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～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10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週間のリリースサイクル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ほとんどハード関係．新しいハードのサポート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多様性．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(Kernel Summit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の写真では男性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白人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が多い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よくないと思っている．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Kernel Summit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は最悪の事例かも．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10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年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,15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年と参加している人が来るので，北米ヨーロッパ中心になる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女性のカーネル開発者向けのワークショップの紹介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開発者でないので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Patch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投稿は不得手．コントリビュータになる方法は？ある？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OS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プロジェクトのなかでやることはある．コードを書くことが全てだと思っていたが，トランスレーションできる．ディストリビューションする．など得意分野で貢献して欲しい．テストでも良い．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Linux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のような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O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がどうなっていく？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それほど変わらないと思う．実際，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年代の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O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コンセプトも，今でも納得できるものだ．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Linux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をなぜはじめたの？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若かったから．馬鹿だったから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会場笑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O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が欲しかった．プロプラでもよければ使うが，当時は高い・性能もよくない．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Linux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はどこにいくのでしょう？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あと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分少々ですが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笑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プランは無かった．が，他の人たちはプランがあった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それぞれの動機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．いろんなプランがいろんな方向を向いています．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Linux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はそれを入れようとして，いろいろ違う方向に行くでしょう．一つのプランがあるよりもずっと興味深い．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EA5-1DD9-4C3D-B4EA-A735582E33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Automotive Linux Summit Spring 2013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HGP創英角ｺﾞｼｯｸUB"/>
              </a:rPr>
              <a:t>Keynote : LWN.net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P創英角ｺﾞｼｯｸUB"/>
              </a:rPr>
              <a:t>Title : Linux Kernel Report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P創英角ｺﾞｼｯｸUB"/>
              </a:rPr>
              <a:t>Speaker : Jon Corbet, Editor at LWN.net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P創英角ｺﾞｼｯｸUB"/>
              </a:rPr>
              <a:t>概要</a:t>
            </a:r>
            <a:r>
              <a:rPr b="0" lang="ja-JP" sz="3200" spc="-1" strike="noStrike">
                <a:solidFill>
                  <a:srgbClr val="000000"/>
                </a:solidFill>
                <a:latin typeface="HGP創英角ｺﾞｼｯｸUB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HGP創英角ｺﾞｼｯｸUB"/>
              </a:rPr>
              <a:t>抜粋</a:t>
            </a:r>
            <a:r>
              <a:rPr b="0" lang="ja-JP" sz="32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TI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，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Samsung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，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Linaro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などモバイル，組込み分野の企業からのコントリビュートが増えている」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big.LITTLE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スケジューラを改良したいなら，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ARM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にコントリビューションしている人たちがもっとやるべき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kernel,mm,fs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あたりでの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Top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コントリビュータと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ARM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のコントリビュータは殆ど一致していない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「テールランプを見ていては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見ているだけでは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イノベーションは起こせない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起きない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B053-AABE-4A52-ADDF-DF9C95C813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58075" t="0" r="0" b="0"/>
          <a:stretch/>
        </p:blipFill>
        <p:spPr>
          <a:xfrm>
            <a:off x="6627960" y="692280"/>
            <a:ext cx="2530440" cy="6178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82720" y="38160"/>
            <a:ext cx="7178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349360"/>
            <a:ext cx="822960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 Black"/>
                <a:ea typeface="HGP創英角ｺﾞｼｯｸUB"/>
              </a:rPr>
              <a:t>Thank you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0" t="0" r="0" b="38834"/>
          <a:stretch/>
        </p:blipFill>
        <p:spPr>
          <a:xfrm>
            <a:off x="2859120" y="4149720"/>
            <a:ext cx="3424320" cy="647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670120" y="5661000"/>
            <a:ext cx="375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e-mai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kato.kazuomi@jp.panason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kato.shinsuke@jp.panason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GP創英角ｺﾞｼｯｸUB"/>
              </a:rPr>
              <a:t>Automotive Linux Summit </a:t>
            </a:r>
            <a:r>
              <a:rPr b="0" lang="zh-CN" sz="3600" spc="-1" strike="noStrike">
                <a:solidFill>
                  <a:srgbClr val="ffffff"/>
                </a:solidFill>
                <a:latin typeface="HGP創英角ｺﾞｼｯｸUB"/>
              </a:rPr>
              <a:t>概要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8000" y="836640"/>
          <a:ext cx="8856720" cy="3821040"/>
        </p:xfrm>
        <a:graphic>
          <a:graphicData uri="http://schemas.openxmlformats.org/drawingml/2006/table">
            <a:tbl>
              <a:tblPr/>
              <a:tblGrid>
                <a:gridCol w="1187280"/>
                <a:gridCol w="2484720"/>
                <a:gridCol w="259236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回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ALS 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回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ALS 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回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ALS 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日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日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28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日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9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9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)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20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日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27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)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28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場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日本　横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ギリス　ゲイド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日本　東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参加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3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ド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3/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35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ド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5/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45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ド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(EL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と同時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2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ド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参加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2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名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5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名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Session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3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件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(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会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その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7868-8E98-4D3B-9B18-C1439176F9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LS Session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会場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02280" cy="5376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2720" y="765000"/>
            <a:ext cx="5543640" cy="1656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ALS 2013 Session</a:t>
            </a:r>
            <a:r>
              <a:rPr b="1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会場の様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他のカンファレンスよりスーツ姿が多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人数少のセッションも有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9C31-8AF4-4DD4-99CE-2D2890D37B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ALS Opening Keynote – Linux Foundation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Speaker : Jim Zemlin, The Linux Foundation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（自動車業界は、）どのような人材を雇うべきか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仕事で遊ぶ人を雇うべき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創造する人は報酬で動かず、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自分にとって興味あることをやる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ソフトウェアを与える人を雇うべき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アイデアをシェアできる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自動車業界は、ソフトでお金を稼がず車両で稼げる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計画にこだわらない人を雇うべき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計画は大切だが、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Linux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は計画無しでも発展した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嫌なやつを雇うべき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互いに批判、議論し合う方が良い結果を得られる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外部の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R&amp;D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を活用出来る人を雇うべき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サムスンは、オープンソース海外拠点を作って管理している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Google/Apple/Facebook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と人材を取り合う状況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227640" y="1628640"/>
            <a:ext cx="2718000" cy="18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5274-E349-4FD7-9E16-38E974CF30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GP創英角ｺﾞｼｯｸUB"/>
              </a:rPr>
              <a:t>ALS Keynote - Nissan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</a:rPr>
              <a:t>Title : Automotive Industry's Challenges to the New Paradigm from Legacy IVI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</a:rPr>
              <a:t>Speaker : </a:t>
            </a: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</a:rPr>
              <a:t>村松寿郎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</a:rPr>
              <a:t>日産　ビークルインフォメーションテクノロジー事業本部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</a:rPr>
              <a:t>IVI (In-Vehicle Infotainment)</a:t>
            </a: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</a:rPr>
              <a:t>CE</a:t>
            </a: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</a:rPr>
              <a:t>機器とのギャップについて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車載：運転性能が重要　　スマホ：操作性が最優先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→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　ブート時間（スマホは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秒！）、ブラックスクリーン問題あり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ソフトアップデートが要求される、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3rd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アプリも活用される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→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　想定アーキ：ＤＬアプリとネイティブアプリ分離（仮想化）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自動車の開発サイクル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年、家電は６ヶ月で新しい機能・デバイスが出てくる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CPU/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メモリのスペックは家電より１，２代前、最新機能は動かせない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</a:rPr>
              <a:t>垂直統合型の開発してきたが、今後をオープンなサービス、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</a:rPr>
              <a:t>PF</a:t>
            </a: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</a:rPr>
              <a:t>を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</a:rPr>
              <a:t>step by step</a:t>
            </a: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</a:rPr>
              <a:t>で実現していきたい　（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</a:rPr>
              <a:t>1st step</a:t>
            </a: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</a:rPr>
              <a:t>は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</a:rPr>
              <a:t>SDK</a:t>
            </a: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117A-3EBF-4585-BC66-19F6343DDB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GP創英角ｺﾞｼｯｸUB"/>
              </a:rPr>
              <a:t>ALS Panel Discussion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Title : - The Open Paradigm - A Tectonic Shift in the Automotive Industry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Speaker :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HGP創英角ｺﾞｼｯｸUB"/>
              </a:rPr>
              <a:t>Matt Jones, Jaguar Land Rover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　（ジャガー）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Hisao Munakata, Renesas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　（ルネサス）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Ken-Ichi Murata, Toyota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　（トヨタ）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Kazuo Tsubouchi, DENSO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　（デンソー）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Rudolf Streif, The Linux Foundation (Moderator)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概要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自動車業界における地殻変動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125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年自動車業界とサプライヤーの閉じた世界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3CA8-B537-4018-9ECA-F89BB80E34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GP創英角ｺﾞｼｯｸUB"/>
              </a:rPr>
              <a:t>ALS Panel Discussion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ジャガー：　運転系だけでなく、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IVI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システムにも期待に応えていかないと。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トヨタ：　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OSS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化をやらなければいけない理由、システムが複雑すぎて自分達で解決できない。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デンソー：　自分達のリソースだけでは難しい。全世界の知識が必要。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司会：「独自ソフトでやってきた自動車業界、今後何が必要か」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トヨタ：　自動車業界の仕様が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OSS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界で、まだあまり認知されていない。ユースケースがどう違うか議論したい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デンソー：　我々のノウハウ、アイデアなので、オープンにするのは説得しづらい。だが、変わりつつある。私が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OSS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リーダとして、この場に来ている。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ジャガー：　我々はユースケースを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GENIVI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に解放したが、現在、メンバーにならないと見られない。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2900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ある。完全にオープンにしようと思う。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司会：「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AGL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に何を期待する？何をコントリビュートしている？」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トヨタ：　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Tizen IVI 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にソースコードを提供した。トヨタで初めてのこと。社内準備が大変だったが、なんとかやった。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ルネサス：　オープンソースは、とにかく小さなソースコードを出して議論していくのがよい。公開の場所で議論する。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1AE3-2AC2-4CCC-BACD-472658A200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GP創英角ｺﾞｼｯｸUB"/>
              </a:rPr>
              <a:t>ALS Panel Discussion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デンソー：　デンソーは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AGL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に参加、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GENIVI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にも参加。起動時間、ファイルシステム、独自の技術を持っているが強みと思っていない。共有すべきと考え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AGL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に参加。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Q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：「ライフサイクルが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年ほど、というなかで、最新のアップストリームに採用されるの？」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ジャガー：　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OSS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は、我々のルールでは動かない。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ルネサス：　製品生産者は、上流に反映させたいと思っていて、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LTSI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でギャップを最小化している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Q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：「自動車エコシステム内にいない開発者がコントリビューションの動機ある？」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トヨタ：　これまでクローズなエコシステム。今後誰でも参加可能。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ジャガー：　将来、センサーネットワークにもアクセスできて、マーケットに出せてマネタイズできるようにする。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29BE-E186-4CC9-B24B-D8D63AE984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5:55:06Z</dcterms:created>
  <dc:creator/>
  <dc:description/>
  <dc:language>en-US</dc:language>
  <cp:lastModifiedBy>K.KATO</cp:lastModifiedBy>
  <dcterms:modified xsi:type="dcterms:W3CDTF">2013-06-10T02:05:20Z</dcterms:modified>
  <cp:revision>227</cp:revision>
  <dc:subject/>
  <dc:title>Automotive Linux Summit Spring 2013 LinuxCon Japan 2013 Report</dc:title>
</cp:coreProperties>
</file>